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4263"/>
        <c:axId val="98647761"/>
      </c:barChart>
      <c:catAx>
        <c:axId val="8484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47761"/>
        <c:crosses val="autoZero"/>
        <c:auto val="1"/>
        <c:lblAlgn val="ctr"/>
        <c:lblOffset val="100"/>
        <c:noMultiLvlLbl val="0"/>
      </c:catAx>
      <c:valAx>
        <c:axId val="98647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4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0FF-BBE3-4F7F-92EB-71CE0E21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178-F84B-4DF8-9F19-4A91C00D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049-0E2E-4D4F-BA9C-7F3052FA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FA8-5746-496E-855F-467BF6DF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05A-4537-4439-905A-EC9584D4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A7F-6268-425C-9B41-CF5F1E37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A0A-0A78-4481-B849-0DF52F48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5D8-7F12-4340-8CD4-561B2655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490-BEAB-4890-8691-15FE133C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F37-BC50-4EA6-8EB3-3C4462E2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586-8AC0-477E-8061-C75EC129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99D-0467-4B78-9640-0FFA71AD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94515-FC73-4BA6-AE04-2A44B8841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