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24821"/>
        <c:axId val="39782333"/>
      </c:barChart>
      <c:catAx>
        <c:axId val="86224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82333"/>
        <c:crosses val="autoZero"/>
        <c:auto val="1"/>
        <c:lblAlgn val="ctr"/>
        <c:lblOffset val="100"/>
        <c:noMultiLvlLbl val="0"/>
      </c:catAx>
      <c:valAx>
        <c:axId val="39782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24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5F8-2C52-4688-A21F-62708580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327-6EBB-4BA3-BA93-99F7A5EE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83F-D5B0-4585-A22B-15250A80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10C-8BFB-41A4-B538-DE15F45D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731-87AC-4CD9-BC00-9EC8EF25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3D7-FE07-4384-AFFD-905D4E22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9EA-D119-4D2B-A7E8-2B08DF2C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331-B653-4CD5-817C-92B15170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EF5-B6C2-44BA-A939-F3E95D10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324-407A-4C75-BD44-97B37A1E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7F1-D4DC-4BAC-96EB-0AD5550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42B-40F7-4DE2-BBAC-2CE7ACBD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D5C71-FD5A-4B36-912E-DC34BEEEDF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